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D8E-142F-4B47-83DE-B81D01E3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257-C6D4-4325-A9C7-1BED0FCE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E54-F61C-48FB-9D31-08C960AC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B6C-C1A3-4785-A038-AE6A0778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449-EF13-437D-9FF1-C2A39CD2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27CB-5655-4278-9EA5-DE4B853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2EA3-3B30-4B86-828E-F68E415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CF16-83B7-402A-9E8A-56FBEB2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A464-8CE5-4118-AA98-A5CFF6A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083-53D6-440E-8879-012EBC6B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00BF-5C8D-4E71-8E19-A04845D7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3E8-0757-4270-B87D-B10929C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F07A-0C30-4741-A0FE-21247E0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DC8-08EF-4365-B67F-9F23FB3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4E3-69CE-4F35-91E3-0D1FFB16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5DD-112C-4137-99BB-2CBC02FB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0381-7C1F-4D87-BE1F-40B4F10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F9D-7ED8-4A9D-AFF1-E75ABC5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DE5-38A2-4F2C-9C0A-BD99D6F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1D6-D77E-481B-BBEB-02F5A71D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01B-1B6B-4CF2-8FC5-4640BEC8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996-E88F-4D26-9EB8-BFEF1F92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835-1BA1-4889-91A9-11B5CD5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238-94BF-4A7D-9266-F87D0D7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250-F601-4CA3-8138-024D5566B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301-012E-4091-89B7-028131710A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Me llamo __________       Clase 7IL</a:t>
            </a:r>
            <a:br>
              <a:rPr sz="3600"/>
            </a:b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La fecha es el 8 de febrero del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ropósito # 54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 the following sentences, write the correct form of SER or ES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Yo _______ un alumno en TR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ú _______ en la clase de españ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lla ______ inteligente y s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sotros _________ atlé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Ustedes __________ b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does SER &amp; ESTAR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aber y Conocer en el present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ing what and whom you kn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th me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both have an irregular YO form in the present te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2514600" y="2438280"/>
            <a:ext cx="85572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Tahoma"/>
              </a:rPr>
              <a:t>Sa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514600"/>
            <a:ext cx="15238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05720" y="2573280"/>
            <a:ext cx="2438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m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860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057400" y="326088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00" y="2514600"/>
            <a:ext cx="251712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039200" y="2589120"/>
            <a:ext cx="268776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76520" y="310032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391440" y="5257800"/>
            <a:ext cx="2676240" cy="1495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09480" y="0"/>
            <a:ext cx="7848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1" lang="en-US" sz="3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know a fact, to have information about some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Rodolfo y Luisa son estudiantes universi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6320" y="4267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día es el viaje a Puerto Ri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981080" y="5486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número de teléfono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524560" y="3691080"/>
            <a:ext cx="232416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900236566[1]"/>
          <p:cNvPicPr/>
          <p:nvPr/>
        </p:nvPicPr>
        <p:blipFill>
          <a:blip r:embed="rId4"/>
          <a:stretch/>
        </p:blipFill>
        <p:spPr>
          <a:xfrm flipH="1">
            <a:off x="7819920" y="3435480"/>
            <a:ext cx="132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371600" y="213372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jug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b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990720" y="335268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habl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año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52280" y="4572000"/>
            <a:ext cx="4343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s niños 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multiplic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ien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14400" y="228600"/>
            <a:ext cx="73152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900" spc="-1" strike="noStrike">
                <a:solidFill>
                  <a:srgbClr val="cc0099"/>
                </a:solidFill>
                <a:latin typeface="Times New Roman"/>
              </a:rPr>
              <a:t>infinitive*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know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to do something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6320" y="5989680"/>
            <a:ext cx="4419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n infinitive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15840"/>
            <a:ext cx="800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often followed by a </a:t>
            </a:r>
            <a:r>
              <a:rPr b="0" lang="en-US" sz="3900" spc="-1" strike="noStrike">
                <a:solidFill>
                  <a:srgbClr val="008000"/>
                </a:solidFill>
                <a:latin typeface="Times New Roman"/>
              </a:rPr>
              <a:t>question wor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9480" y="147168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quié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 Antonio Bander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90920" y="3886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dón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tá Waldo y Wenda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533412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cuánd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ale el vuelo para Chil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5800" y="632448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 question word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19720" y="1974960"/>
            <a:ext cx="2361960" cy="18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43352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/>
          <a:stretch/>
        </p:blipFill>
        <p:spPr>
          <a:xfrm>
            <a:off x="7086600" y="5219640"/>
            <a:ext cx="167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4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09480" y="0"/>
            <a:ext cx="79250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also used when we know something from memory (de memoria)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320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uela Marta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Himno Nacional Mexic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19096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809880" y="3352680"/>
            <a:ext cx="4648320" cy="1603440"/>
          </a:xfrm>
          <a:prstGeom prst="wedgeEllipseCallout">
            <a:avLst>
              <a:gd name="adj1" fmla="val -60930"/>
              <a:gd name="adj2" fmla="val 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¡Mexicanos, al grito de guerra . . .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3886200" y="3429000"/>
            <a:ext cx="380520" cy="523440"/>
            <a:chOff x="3886200" y="3429000"/>
            <a:chExt cx="380520" cy="523440"/>
          </a:xfrm>
        </p:grpSpPr>
        <p:sp>
          <p:nvSpPr>
            <p:cNvPr id="139" name="AutoShape 7"/>
            <p:cNvSpPr/>
            <p:nvPr/>
          </p:nvSpPr>
          <p:spPr>
            <a:xfrm>
              <a:off x="4076640" y="3429000"/>
              <a:ext cx="190080" cy="149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19080 h 149400"/>
                <a:gd name="textAreaBottom" fmla="*/ 130320 h 1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3886200" y="3803040"/>
              <a:ext cx="190440" cy="14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4076640" y="3484800"/>
              <a:ext cx="0" cy="39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5867280" y="4648320"/>
            <a:ext cx="381240" cy="514080"/>
            <a:chOff x="5867280" y="4648320"/>
            <a:chExt cx="381240" cy="514080"/>
          </a:xfrm>
        </p:grpSpPr>
        <p:sp>
          <p:nvSpPr>
            <p:cNvPr id="143" name="AutoShape 11"/>
            <p:cNvSpPr/>
            <p:nvPr/>
          </p:nvSpPr>
          <p:spPr>
            <a:xfrm>
              <a:off x="6058080" y="4648320"/>
              <a:ext cx="190440" cy="146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19080 h 146880"/>
                <a:gd name="textAreaBottom" fmla="*/ 12780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5867280" y="5015520"/>
              <a:ext cx="190800" cy="14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6058080" y="4703040"/>
              <a:ext cx="0" cy="391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7848720" y="3352680"/>
            <a:ext cx="609480" cy="590400"/>
            <a:chOff x="7848720" y="3352680"/>
            <a:chExt cx="609480" cy="590400"/>
          </a:xfrm>
        </p:grpSpPr>
        <p:sp>
          <p:nvSpPr>
            <p:cNvPr id="147" name="Oval 15"/>
            <p:cNvSpPr/>
            <p:nvPr/>
          </p:nvSpPr>
          <p:spPr>
            <a:xfrm>
              <a:off x="7848720" y="3785760"/>
              <a:ext cx="22140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8070120" y="345096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8236440" y="3687480"/>
              <a:ext cx="22176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8458200" y="335268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 flipV="1">
              <a:off x="8070120" y="3352680"/>
              <a:ext cx="387720" cy="10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5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ribe 5 oraciones con el verbo SAB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o kn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0:52:38Z</dcterms:created>
  <dc:creator>Helen Zumaeta</dc:creator>
  <dc:description/>
  <dc:language>en-US</dc:language>
  <cp:lastModifiedBy>Helen Zumaeta</cp:lastModifiedBy>
  <dcterms:modified xsi:type="dcterms:W3CDTF">2013-02-08T20:46:33Z</dcterms:modified>
  <cp:revision>11</cp:revision>
  <dc:subject/>
  <dc:title>Me llamo __________          Clase 7IM La fecha es el 9 de noviembre del 2011</dc:title>
</cp:coreProperties>
</file>